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4D67-33ED-4E89-9419-3B84C4616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211B-B412-41CD-A122-09100324C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A6BC-B0C0-47B2-A1A0-36B1AD2C1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38B3-4A84-4A62-93D6-F4F7C21A1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9C80-DE13-45C5-878F-2F27915FB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28E7-D0B5-457A-9789-712C4C38C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C70C-48F3-4C58-AF02-994B34441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105D-6814-4065-B99F-51205F76B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B99F-5AF6-4994-8F1D-3ED3CFD07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BA71-62E6-4D60-A78A-FFE2AE11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1478-94C4-4B99-9A17-2B21CF43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8045-A172-491B-B09B-DC674F78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13F2B-A38F-49C6-A465-1C4C0248F8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elcome B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 When Training Fails – Session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are with someone outside of your school – what did you find similar and different to your sit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os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5-30-15 Framing your nex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F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what is F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clear expectations for teac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uld be studied periodically for adjust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uld be used for data on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fer Rubr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iew the transfer rubric and determine individually a school sc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 as a te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uring Trai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nking about the Essenti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ke a look at your advance organizers and see how many of the areas you can expl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t with a partner and see if your explanations alig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sed on your new understanding of transfer add to the inspiration map at least one visual that might capture your understanding of transfer with your partn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apt your KIC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ing into trai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seline data  on teacher performance related to the need is collected, analyzed, and communicate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mand for change is created with an intentional pl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evel of quality, intensity and fidelity is collaboratively developed and communicate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and train a cohort of coaches and trainers specifically for the identified nee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termine Effective Teaching based on this da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Content Placeholder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termine Effective Teaching based on this da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Content Placeholder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udy of Improv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21:18:51Z</dcterms:created>
  <dc:creator>Debra Webb</dc:creator>
  <dc:description/>
  <dc:language>en-US</dc:language>
  <cp:lastModifiedBy>Debra Webb</cp:lastModifiedBy>
  <dcterms:modified xsi:type="dcterms:W3CDTF">2012-11-19T21:41:40Z</dcterms:modified>
  <cp:revision>9</cp:revision>
  <dc:subject/>
  <dc:title>During Training</dc:title>
</cp:coreProperties>
</file>